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532-0155-4874-BB38-AF930C21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89C-DFB1-492D-8C0E-5D86DB1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888-4346-4048-BD85-A6E4571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5E9-3D02-4168-BF9F-55971262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0A8-E91D-414D-A5B6-E72E5F9A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AC7-4108-462E-BE93-210CA2F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793-4E74-455B-8B5B-863A44D1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561-CDD7-48E1-BA09-3B962ED3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720-31DD-4CBD-A887-3803206F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A06-C924-42C4-B9F7-C236F75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687-65E6-454C-BE65-AD193F1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5BD-E28A-4FE4-AE04-477C064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6763-553D-4DEE-BE0C-9514FB18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hold your breath lo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ight and weight effect lung capa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….that larger people will have more lu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l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femal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he participant’s hold their breath as long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height and weight could effect lung capacity I had them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lso had them write down what sports they have played during the school year, since their physical activities could effect their brea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                        Sports                                      Height             Weight               Tim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ckyn Fox- Basketball, volleyball, track                    5’4              109 lbs.             1 min. 2 sec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se Buckman- football, basketball, track, golf          5’7              120 lbs.             58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dsy Klein- Basketball, volleyball                              5’7              122 lbs.            1 min. 33 sec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tyn Flickenger- track, volleyball, basketball              5’0               110lbs.             23sec.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 Duncon- Basketball, Football, baseball, tennis  5’10             165lbs.             1min. 15sec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llas Rhodes- Football, basketball, track                    5’3               99lbs.               1min. 30sec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e Slupski- Football, basketball, tennis                     5’7               200 lbs.            25 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rew McPherson- football, basketball, tennis           6’0               133 lbs.            35 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ah Watney- cross-country, tennis                           4’6                90 lbs.             1min. 9 sec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ltyn Flickenger- Basketball, volleyball                       5’4               115lbs.             22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li Casey- none                                                         5’5               190lbs.             35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 Dowell- Basketball, Volleyball, track                      5’6               120lbs.             30sec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219320"/>
          <a:ext cx="876312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76312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was very surprising to me.  There was no significant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514600" cy="225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2819520" cy="22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71800" y="380988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791320" y="1600200"/>
            <a:ext cx="289548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0:08Z</dcterms:created>
  <dc:creator>USD376</dc:creator>
  <dc:description/>
  <dc:language>en-US</dc:language>
  <cp:lastModifiedBy>STERLING  USD376</cp:lastModifiedBy>
  <dcterms:modified xsi:type="dcterms:W3CDTF">2010-05-10T13:34:26Z</dcterms:modified>
  <cp:revision>12</cp:revision>
  <dc:subject/>
  <dc:title>Title</dc:title>
</cp:coreProperties>
</file>